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745-78AE-4B6E-A621-84BB6B89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D77-492F-40C7-999E-36AF939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CB7-ED97-42EA-897E-3EDDDBE1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92F-41C3-4EC8-B605-1802545D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8A5-A063-425A-A6BC-6022327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23F-E1D4-44BE-99D8-A0034348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F27-4D55-4AF9-9A0C-FC9C1501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2A1-5CAF-4D5D-98A3-A3A2FCA6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06A-179A-4AE7-BAF0-BA5E7093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5AD-C8CE-4BF3-8A99-43CC5D48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27E-2F45-42D0-A4E4-6B40DF76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87E-6BB3-4494-B8AA-CDCC504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22C6-9550-464D-A5B1-07819AED87B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20" y="981000"/>
            <a:ext cx="198972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RESTI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A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163440"/>
            <a:ext cx="40640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8920" y="549360"/>
            <a:ext cx="4267080" cy="146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amento giornaliero dei rilasci nei primi giorni; la ripresa dopo il minino è dovuta all’aumento di temperatura provocato dal materiale di copertura lanciato con gli elicot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592360"/>
            <a:ext cx="3670200" cy="4149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61000" y="2133720"/>
            <a:ext cx="183852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l rilascio di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131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84600" y="-27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L RILAS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10286" r="0" b="0"/>
          <a:stretch/>
        </p:blipFill>
        <p:spPr>
          <a:xfrm>
            <a:off x="4572000" y="981000"/>
            <a:ext cx="4581360" cy="5400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181280" y="1341360"/>
            <a:ext cx="1380240" cy="368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Bq=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18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30680" y="2708280"/>
            <a:ext cx="228600" cy="1447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91120" y="476280"/>
            <a:ext cx="314496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l rilascio giornaliero to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2000" y="2133720"/>
            <a:ext cx="1366560" cy="368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Bq=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424" t="0" r="0" b="0"/>
          <a:stretch/>
        </p:blipFill>
        <p:spPr>
          <a:xfrm>
            <a:off x="2124000" y="115920"/>
            <a:ext cx="5751720" cy="6599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920" y="1628640"/>
            <a:ext cx="2592360" cy="4208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l momento dell’incidente il vento soffiava verso la Scandinav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I primi a rivelare radioattività nell’aria fuori dalla ex URSS furono i tecnici di una centrale svede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Dopo aver capito che il rilascio non era legato alla loro centrale diedero l’alla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360" y="333360"/>
            <a:ext cx="23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A DISPER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990720" y="1523880"/>
            <a:ext cx="7162560" cy="5257800"/>
            <a:chOff x="990720" y="1523880"/>
            <a:chExt cx="7162560" cy="52578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990720" y="1523880"/>
              <a:ext cx="71625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621520" y="2908080"/>
              <a:ext cx="283680" cy="29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37560" y="1669320"/>
              <a:ext cx="1242000" cy="145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12320" y="3782520"/>
              <a:ext cx="283680" cy="2908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37560" y="1887840"/>
              <a:ext cx="1242000" cy="14580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52280" y="476280"/>
            <a:ext cx="8839440" cy="99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rante i primi 10 giorni, quando i rilasci radioattivi furono più intensi, le condizioni meteorologiche e la direzione del vento cambiarono in continuazione, interessando via via vari set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08840" y="44280"/>
            <a:ext cx="23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A DISPER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728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33760" y="189000"/>
            <a:ext cx="3772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RESTI DEL REA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8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4749840" cy="5391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19640" y="2997360"/>
            <a:ext cx="3708360" cy="3038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33760" y="228600"/>
            <a:ext cx="3772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RESTI DEL REA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24000" y="2395440"/>
            <a:ext cx="2742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l combustibile f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333360"/>
            <a:ext cx="6629400" cy="6272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23200" y="333360"/>
            <a:ext cx="3975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L RESTI DEL REA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795240"/>
            <a:ext cx="2514600" cy="169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33920" y="808200"/>
            <a:ext cx="2361960" cy="16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00800" y="765000"/>
            <a:ext cx="2286000" cy="163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52280" y="2819520"/>
            <a:ext cx="5334120" cy="3500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943600" y="2819520"/>
            <a:ext cx="2438280" cy="165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5950080" y="4621320"/>
            <a:ext cx="2438280" cy="1687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76360" y="92160"/>
            <a:ext cx="2742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l combustibile f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58760" y="198756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7 pompieri vengono ricoverati; 4 di essi in sala macchine hanno preso dose da pezzi di combustibile finiti su un trasformatore (10 Gy); alla fine 31 di essi moriran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200" y="2025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5800" y="1333440"/>
            <a:ext cx="80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pompieri domano incendio sul tetto della sala macchine ed entrano in sala mac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58760" y="476280"/>
            <a:ext cx="71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primi ad arrivare sono i pompieri: a un primo gruppo di 14 si aggiungono rinforzi che continuano ad arrivare; alle 4 del mattino sono 250; 69 di essi partecipano alle operazioni di spegn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28600"/>
            <a:ext cx="19080" cy="305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440" y="52704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2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5840" y="133344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5840" y="17017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51920" y="1628640"/>
            <a:ext cx="47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ne domato incendio sul tetto della sala rea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60840" y="92160"/>
            <a:ext cx="1966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SOCCO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3213000"/>
            <a:ext cx="4680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594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72160" y="191628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ci sono esperti per affrontare questo tipo di incen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77920" y="2421000"/>
            <a:ext cx="66168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 elicotteri vengono lanciati sul nocciolo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 000 t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 materiale vario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0066"/>
                </a:solidFill>
                <a:latin typeface="Times New Roman"/>
              </a:rPr>
              <a:t>40 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carburo di boro per assorbire neut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33ccff"/>
                </a:solidFill>
                <a:latin typeface="Times New Roman"/>
              </a:rPr>
              <a:t>600 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dolomite   per produrre 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er spegnere incen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 400 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omb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rbire radi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Times New Roman"/>
              </a:rPr>
              <a:t>1 800 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bbia e argill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ridurre il rilascio di partic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14130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rottura del nocciolo porta aria in contatto con la grafite che s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ce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286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4149720"/>
            <a:ext cx="6985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 t di materiale era stato lanciato il 27 Ap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 t i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0 t il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500 t il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900 t il 1 Magg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 t i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Magg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00 voli di elicottero per lanciare il mat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2080" y="92160"/>
            <a:ext cx="4627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’INCENDIO DELLA GRA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280" y="616572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 magg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2760" y="61657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ne spento l’incendio della graf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00720" y="69228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 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 graf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8000" y="404640"/>
            <a:ext cx="53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L RILASCIO, LA DISPERSIONE E LA DEPOSIZIONE DEI RADIONUCLI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6360" y="1557360"/>
            <a:ext cx="795636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l materiale radioattivo rilasciato in atmosfera è costituito da gas, aereosols e combustibile finemente framment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429000"/>
            <a:ext cx="874872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 stima c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a stato rilasciat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ll’inventario dei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bili (xenon and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rypto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 il </a:t>
            </a: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10 e il 20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gli elementi più volatili: </a:t>
            </a: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iodio, tellurio e cesio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l 3</a:t>
            </a:r>
            <a:r>
              <a:rPr b="1" lang="it-IT" sz="2400" spc="-1" strike="noStrike">
                <a:solidFill>
                  <a:srgbClr val="333399"/>
                </a:solidFill>
                <a:latin typeface="Times New Roman"/>
              </a:rPr>
              <a:t>.5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%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el combustibile  ( 6 tonnellate di combusti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4533" t="10370" r="3383" b="2918"/>
          <a:stretch/>
        </p:blipFill>
        <p:spPr>
          <a:xfrm>
            <a:off x="1476360" y="774720"/>
            <a:ext cx="6121440" cy="589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9760" y="1484280"/>
            <a:ext cx="13330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Bq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84600" y="333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L RILAS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0600" y="2060640"/>
                <a:ext cx="1355760" cy="31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γalignl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96960" y="5300640"/>
                <a:ext cx="779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alignl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6:59:26Z</dcterms:created>
  <dc:creator>Luigi Sangaletti</dc:creator>
  <dc:description/>
  <dc:language>en-US</dc:language>
  <cp:lastModifiedBy>Luigi Sangaletti</cp:lastModifiedBy>
  <dcterms:modified xsi:type="dcterms:W3CDTF">2007-03-19T21:34:36Z</dcterms:modified>
  <cp:revision>3</cp:revision>
  <dc:subject/>
  <dc:title>Diapositiva 1</dc:title>
</cp:coreProperties>
</file>